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504-CB86-4FDB-A886-4F37332B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FC7-FB59-48FE-98A8-0632C43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F82-B239-4732-BA31-419F5F17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BE6-83AD-42BB-B8F3-CB3B2DB6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78D-1E1D-4E73-834F-FC209F4A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425-0312-45E0-9601-BE17A36B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354-7AE5-4814-A363-6C03BFCD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D5E-0C7A-45B2-983C-47B46FAB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94C-8709-47AE-A918-BDB5DB48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C54-CEA5-40BB-8E78-94D1A49A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7B0-8FF8-4CB6-955B-F387718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AF0-76CA-4269-8B90-3168632F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DA2E-3B56-4A8D-9608-C00D74800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9600"/>
            </a:br>
            <a:br>
              <a:rPr sz="9600"/>
            </a:b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Tahoma"/>
              </a:rPr>
              <a:t>قادي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وريشلِمْ دَلْعِلْ/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بْعيدتو ديت عَلْ أرْعو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عَلْ مَدِبْحو بْرومَو/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هوِى دوخرونُو طُبُو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مرِه دالوهو وْرُعْيو/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ْمِيت مِطولْ عُونِه ْعبدْ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ورْ بطيبوتُخْ نيُحُو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ْعنيدِهْ مْهَيمِن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ْفَغْروخ صَهْيُوي نَفْشْ دِقْروب صيدَاوْ دُحِلنُو حَوْباي مْزِيعينْ لِي بَحْنُونُخْ مُورْ نِتْحاسُونْ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ادُوتُو لْعِلُوِيه وسَبْرو طُبُو لْتَحْتُويه بقوربونو دْعُبْدينْ حايِه حْلُوفْ عَانِيدَيْهُونْ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 قاديش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مور / قُعْيوعيدتو / بريخو دْيَبْلي / فَغْرِه وَدْمه دتحاسِ بـِه.</a:t>
            </a:r>
            <a:r>
              <a:rPr b="1" lang="ar-SA" sz="9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 وهللويا/ وله تشبوحتو ديَبلن فغره / ودمه حايو دِنْتحاسي به.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ودشُخ نِهوِا مِتكَشْفنُو / بْدينو حْلُفَيْن قْدُم هُوي بيما /دْمَلْيُو دِحلو وعَزيزوتو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 وهللويا/ وله تشبوحتو دْشُتْيو مِنِه/ عيدتو ويَلْديه وزُمرين شوبحو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بل مورَنْ بَحْنُنُخْ /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نْ سُوغودَيْك قُوربُنا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حوس بْطَيْبوتُخ ألوهَن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لْ نَفشوتو دعانيدِ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و قوربونو إِتْقاراب/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هُو نَفْشوتو مِتْدَخْرُن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هْوِ به نْيُوحُو لـمِيتِه دَحْلُفِيهون إتقاراب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قوربونو هُون دِاتقاراب/ من حَايو حْلُفْ عانيدِه/ متحاسيه عَوْلوه دْنَفشو/ وْمِشْتَبْقين لُو بوصور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او دَقْرو لِه لْلْعُزُر/ وْلَعْليَموْ بْرُ دَرْمَلْتو هو نِروس طالو دْرَحْمه عَلْ غَرْمَيْهون دْعَانيد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0:03Z</dcterms:created>
  <dc:creator>Charbel Azar</dc:creator>
  <dc:description/>
  <dc:language>en-US</dc:language>
  <cp:lastModifiedBy>Charbel Azar</cp:lastModifiedBy>
  <dcterms:modified xsi:type="dcterms:W3CDTF">2002-02-08T21:10:14Z</dcterms:modified>
  <cp:revision>1</cp:revision>
  <dc:subject/>
  <dc:title>PowerPoint Presentation</dc:title>
</cp:coreProperties>
</file>